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B45-2477-4126-97D0-AE78429F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BCF-28D6-462D-A02F-A2E3DA9E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4FB-EE22-4941-ABB5-C948A7F2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38C-0F57-4967-BAC7-3300707F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43F-A1F4-48A0-BF07-F89CF87D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8CF-3738-450E-8C5E-E174AADB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115-0CC8-4A0E-880C-31E7ECDB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6C7-3E38-4C9D-A404-271675FE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D50-4747-4AA8-BDAA-B0E02B55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3EE-5AC1-46E4-861D-73AFFB3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CBF-C4EF-4907-94C4-90F3D406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C1F-5EE0-422D-A7FC-FDBD76AE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65E1-928F-4198-87FA-979DCE14D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ion Anomaly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Time Inst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7200" y="1219320"/>
            <a:ext cx="7688160" cy="2457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362320"/>
            <a:ext cx="1218960" cy="368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di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Time R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191120" cy="383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1153" r="0" b="20436"/>
          <a:stretch/>
        </p:blipFill>
        <p:spPr>
          <a:xfrm>
            <a:off x="5105520" y="1371600"/>
            <a:ext cx="2307960" cy="350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 flipV="1">
            <a:off x="1219320" y="2971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429000"/>
            <a:ext cx="1676520" cy="520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 Click to view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3276720"/>
            <a:ext cx="213372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391520" y="3429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3124080"/>
            <a:ext cx="152424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. Time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963" r="0" b="0"/>
          <a:stretch/>
        </p:blipFill>
        <p:spPr>
          <a:xfrm>
            <a:off x="2130480" y="990720"/>
            <a:ext cx="488160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Time R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2133720" cy="520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 Select GetCoverage for Time_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23880" y="1371240"/>
            <a:ext cx="11430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76920"/>
            <a:ext cx="228600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a. Change Time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553080" y="60199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5715000"/>
            <a:ext cx="1752480" cy="520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. Change Time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791320"/>
            <a:ext cx="24382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b. Change Time 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5029200"/>
            <a:ext cx="14479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601992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6156360" cy="3395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Normal Hi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86200"/>
            <a:ext cx="24382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a. Change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371600"/>
            <a:ext cx="685800" cy="403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143000"/>
            <a:ext cx="24382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 Select Time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4495680"/>
            <a:ext cx="24382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b. Change Percen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048120" y="4038480"/>
            <a:ext cx="2133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971800" y="464832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Difference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143000"/>
            <a:ext cx="24382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 Select EvaluateE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54040" y="1600200"/>
            <a:ext cx="6234120" cy="3278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2437920" y="1371600"/>
            <a:ext cx="228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4191120"/>
            <a:ext cx="243864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. Modify Ex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276720" y="43434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6:39:18Z</dcterms:created>
  <dc:creator>Administrator</dc:creator>
  <dc:description/>
  <dc:language>en-US</dc:language>
  <cp:lastModifiedBy>Administrator</cp:lastModifiedBy>
  <dcterms:modified xsi:type="dcterms:W3CDTF">2008-06-02T18:24:31Z</dcterms:modified>
  <cp:revision>2</cp:revision>
  <dc:subject/>
  <dc:title>Concentration Anomaly Tool</dc:title>
</cp:coreProperties>
</file>